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8912-86A3-473E-9AA2-60C5F1B9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3735-23BF-4786-8C74-D3733259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B9D3-B46D-4B56-B0B0-07B81D85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98CB-996F-4F9F-B0D7-30E96011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3E2B-F0C4-4492-902B-96384171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3E52-3A19-4911-819C-FA1C0A71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A16B-1570-45DF-B890-757B4A29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B9F1-D3A1-4150-80E5-F917C028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9B45-C722-489B-9000-BB514A55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847E-8BA3-4C27-9331-E02AF970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D660-5575-4A5D-9E95-A9B086D7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42A4-541D-4EB4-8BCD-FB4B1285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83A7-C8CD-4296-B768-09AE9248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7767-9113-436C-8AFA-4585C70D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544E-FB8F-43DF-8C47-CF588E85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C768-105A-4F40-A14A-E936EF3A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0534-B811-40D2-B93C-D9EE6EFA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44A7-89B7-4B92-A32E-B1F78C8C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AA9F-D488-4161-8BC9-B6ED2167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C041-C918-49B9-A488-D93CEBA0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8D35-82B3-467A-B0D2-680CFA2E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5D3-6322-4D95-9ECF-9D734CB6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2F52-ABF8-408D-AF1E-84CABE31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B913-250D-4F8D-BE9F-3991DD46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56E4-BEE5-42BA-A4A0-5FC81C4F259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3635-3945-4821-B215-B4B928938B7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990720" y="3200400"/>
            <a:ext cx="739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l Presente Progresivo</a:t>
            </a:r>
            <a:endParaRPr b="0" lang="en-US" sz="9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s corrie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Tú (correr) ahora.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425240"/>
            <a:ext cx="809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amos habla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914400" y="2927520"/>
            <a:ext cx="74167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Nosotros (hablar).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Nosotros(secarse)con las toallas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Estamos secándono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estás despertándote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2927520"/>
            <a:ext cx="78739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Tú (despertarse) ahora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 vivie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990720" y="2927520"/>
            <a:ext cx="73404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Paco (vivir) aquí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oy durmie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Yo (dormir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oy ye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2927520"/>
            <a:ext cx="69595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Yo (ir) al gimnasio ahor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is pidie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142640" y="2927520"/>
            <a:ext cx="71881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osotros (pedir) la comid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 traye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Ana (traer*) una pizza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amos sirvie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2640" y="2927520"/>
            <a:ext cx="71881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Nosotros (servir) ahor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oy mira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Yo (mirar) la tele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66"/>
                </a:solidFill>
                <a:latin typeface="Arial"/>
              </a:rPr>
              <a:t>Estás tocando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2895120"/>
            <a:ext cx="7645680" cy="18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Tú(tocar) la guitarra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 camina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8483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Mi perro(caminar)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n lleva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Ellos (llevar) los jeans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 llamando 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 (llamar) por teléfono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s escribie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Tú (escribir)la tarea.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425240"/>
            <a:ext cx="809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Estoy cepillándome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400" y="2927520"/>
            <a:ext cx="74167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Yo (cepillarse) los dientes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oy vie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Yo(ver) un video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66"/>
                </a:solidFill>
                <a:latin typeface="Arial"/>
              </a:rPr>
              <a:t>Estás despertándote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2927520"/>
            <a:ext cx="78739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Tú(despertarse) ahora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n oye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Ellos (oír) la música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  <a:ea typeface="Arial"/>
              </a:rPr>
              <a:t>Estás nada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Tú (nadar)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n ponie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2927520"/>
            <a:ext cx="69595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Ellos (poner) la mesa para la cen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n canta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2927520"/>
            <a:ext cx="78739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Ellos ( cantar) Feliz Cumpleaños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oy levantándome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yo (levantarse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ahor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s comie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42640" y="2927520"/>
            <a:ext cx="71881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Tú (comer) la sop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66"/>
                </a:solidFill>
                <a:latin typeface="Arial"/>
              </a:rPr>
              <a:t>Está maquillándose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440" y="2927520"/>
            <a:ext cx="76453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Mi amiga (maquillarse) para la escuela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 leye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8483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Juan(leer) un libro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is trabaja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Vosotros (trabajar) en la tarea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5335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 preparando 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la ( preparar)los tacos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1:10:45Z</dcterms:created>
  <dc:creator>Tom Shirley</dc:creator>
  <dc:description/>
  <dc:language>en-US</dc:language>
  <cp:lastModifiedBy>Meg</cp:lastModifiedBy>
  <cp:lastPrinted>2009-04-22T19:24:48Z</cp:lastPrinted>
  <dcterms:modified xsi:type="dcterms:W3CDTF">2014-02-01T15:46:27Z</dcterms:modified>
  <cp:revision>24</cp:revision>
  <dc:subject/>
  <dc:title>PowerPoint Presentation</dc:title>
</cp:coreProperties>
</file>